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png" ContentType="image/png"/>
  <Override PartName="/ppt/media/image12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D1E2-078B-41B4-BFC3-72CD284D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0A10-3FB5-40BB-89DC-1D644351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B2015-A53E-4E24-ADA3-0CE8CB87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A5BAF-355E-4CE2-84E5-796C9B9B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ACFEC-A2D3-4EA2-A5E3-89FFD0DA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0C337-5DC5-449F-BA66-49C2F92B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E45F8-6738-4984-A7EA-50DAA69B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298063-976F-4F3D-B339-B17A9A29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B52B0-DD1E-4D90-9B58-2F8A91E8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B3DA4-59B1-4B21-BA46-A9A716FDB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C96D1-78B4-4258-9D81-EF54E5AC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588A4E-C90D-4E46-B7ED-3B2F1824C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97DE-6F0A-4366-9549-BC010A78C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C4365-12EC-4DCF-BA8E-188C691B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F8CA76-5BC8-46AC-A2FE-D0C7487E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9A3B0-5713-4F3A-A3AE-EB860743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722930-6077-42E2-8D5B-610DA132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6E290-5557-47D9-845E-5B5141B8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FC8B0-A8FF-4B96-8A1C-0FB18E43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7827A7-5B9E-4A18-9447-FC12A95A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8134D9-5EDA-4B88-9262-02F3EE13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6A6286-EDDE-4A2A-A56C-EFD6C655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C6B49-9FE2-4F7B-8DB6-2DBD3D42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4436-FF9E-4DC1-BA2F-9F185F769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9A187-A644-482D-AD54-4BC7D4E5E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8325-19E6-49A6-960C-1800D894D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52AD-1E3F-415C-9724-465F3EC7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6785-80E2-45D9-9B04-0BB3F99F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EC40-3478-415D-9EA2-08849026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022E-2D02-4E51-ADE4-41750633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C033-1151-41AF-88A5-B538A0A7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696A-7628-44AA-8A0D-B24A76AD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8095-08DF-43B5-9FB3-DB664017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5178-11C7-413B-B93A-153044D2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8AF5-40B8-467B-B828-99F10668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97C2-B232-454C-835F-03A08DD5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6C75-4ACB-491B-A86D-8CAE7B5FA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978E-D4AE-467C-87AA-58D73C2C1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9AB18-8A0D-45DC-914B-351725B8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34B78-CBD5-4C2F-BA3A-D7C2294E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E8806-22B0-4C29-9C33-C90AAEF4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A6534-5432-48A4-9068-5A467983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24AE9-4019-4FE2-8595-0727F6CD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BDCD-5DD7-4B18-A583-D7EC7FE5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F8833-C158-456F-8211-CE24C006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8D87A-DD62-462B-BE95-D3B492D3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D7AF9-543B-4514-BF2B-F52ED4CB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C9B9D-2E49-4076-B1B4-3660E02A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89700-9614-4296-9AC5-11A3CF74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67F99-AB18-45C6-945F-BABCB4C87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70AFA-E9E6-475C-86B2-23D9353E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87291-EB44-4C86-A578-4312BE235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46159-8DF5-4695-A5FC-2A357392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4878A-29A7-43BD-955F-827230C8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219D-AA17-4557-9113-7E2F4270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07EFA-458B-4BD5-87BA-21C03AE2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4AE52-338B-4196-89E2-113A2F8A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A9310-7544-4EA9-A38D-DFF1A340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76DF0-6DB8-45CF-B1F3-DD19BE5B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F8F57-C73D-44EB-B9FB-03B7BCD5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9FB32-24F1-40A7-8115-2C27C04B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01DA8-5700-40C9-AFE2-84A5E39A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3BF6E-1CF2-4945-A8D3-5268C975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88BDE-CB14-40E1-ACCC-4AE5A41FD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4ABAD-8C83-4AED-BB80-8A2266D9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50B8-3E28-4C5B-8704-ECBB5E28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B8E3D-732F-449D-A5BA-64D8AF11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2CD82-B680-47EB-9116-26730EA7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AD6D5-FD14-4FD7-B285-44901FB9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DFFEF-7119-41AE-A19C-CA14ABCB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36011-C5A4-48C7-B8C3-F3C29A63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77B2C-3CF5-41AE-9028-9AA7D4D0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26923-6596-4F84-A0C4-8DE20469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0E4F0-4076-40E8-87EC-AAE25582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750CA-0571-4E31-A057-A4ED5EF1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6F0D7-01FB-47CE-9C7C-329CE02C9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C309-B592-41A2-A774-74F1B810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59F59-6C2D-4A8D-B4C3-0DB429F10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1FCE3-3D2F-499A-8B54-99C45CC92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86983-534F-4E04-9AA7-BFB40A97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C73E5-206F-4249-8A1E-0C4781EB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330E2-6AE9-4374-A61D-D7A05F5C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CF758-68C2-4F01-9F56-4EDCC0CF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D398F-BDF2-4A7A-863B-173EAD8F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1C400-8277-4FE9-8941-0AA3DE21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B598A-DA90-4959-9EB0-B000CE21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01A64-1AA4-44DB-9451-AE3D9D40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B963-7E32-4A4D-A7B8-A9622E36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20C37-93F9-44A8-98AD-5A26A372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4C6D6-6EB8-4486-9685-66712784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942C1-4B8A-43F6-9B15-62EE63ED7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A0590-C750-4315-9336-BFC12447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8328D-0FA6-4426-85DD-3D5745B1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5757B-06FA-4E2B-9E75-F817A160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F819F-E891-49E4-9CAC-6DB1B2EA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3FBF6-695E-4A75-AF68-CE678328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D73EA-E41A-4325-83BA-A5E6B8DD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33773-4EEA-4EA7-8370-D31BF9D1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5CDC-7E8B-4B61-94A1-A0CFCECD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B0995-72D6-4231-BEF6-2C393689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7EC55-A629-4B7C-86BA-A648525D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FC443-905C-4519-97E7-D42E1BB0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385BF-AD64-4C26-9752-7775481D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43EDF-D188-4638-8ECE-414C075D1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CBDCB-64EF-46F3-920F-4C505F0A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DC18A-C16B-40E9-B058-5FA159C3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8ABA9-6159-4B71-8040-18F6CFD2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2392E-C1F7-4662-9AC1-24E47859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9AE03-FEA4-4D1E-BE8E-E2A45C1B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E0AA-E765-4D8C-A71B-C5647B8C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46A48-1C6F-4BE4-8F5B-7E87F170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EE891-D353-41D1-8E04-D953A69A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B6CDC-31EE-4621-901C-60C5D6A1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DC6B4-0732-41A0-B563-BE9EC0D4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44D9B-DE47-417D-976E-50B51898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7B6B9-B9F4-4B18-9841-2EFD6DEDD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5E606-62E8-4694-B857-B59B76CDE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9B1AB-7A20-4933-BDF5-D7C646E5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E774E-2CE1-4D95-ADC2-170D62A5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C87C6-04B6-4FCC-98A8-69A1F07D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1" name="Object 3"/>
          <p:cNvGraphicFramePr/>
          <p:nvPr/>
        </p:nvGraphicFramePr>
        <p:xfrm>
          <a:off x="0" y="0"/>
          <a:ext cx="3848040" cy="379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384804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Line 4"/>
          <p:cNvSpPr/>
          <p:nvPr/>
        </p:nvSpPr>
        <p:spPr>
          <a:xfrm>
            <a:off x="304920" y="6508800"/>
            <a:ext cx="86104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8461440" y="-6480"/>
            <a:ext cx="539640" cy="835200"/>
          </a:xfrm>
          <a:custGeom>
            <a:avLst/>
            <a:gdLst>
              <a:gd name="textAreaLeft" fmla="*/ 0 w 539640"/>
              <a:gd name="textAreaRight" fmla="*/ 540000 w 539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8145360" y="-6480"/>
            <a:ext cx="540000" cy="835200"/>
          </a:xfrm>
          <a:custGeom>
            <a:avLst/>
            <a:gdLst>
              <a:gd name="textAreaLeft" fmla="*/ 0 w 540000"/>
              <a:gd name="textAreaRight" fmla="*/ 540360 w 54000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24c64"/>
              </a:gs>
              <a:gs pos="100000">
                <a:srgbClr val="6ca5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6" name="Group 7"/>
          <p:cNvGrpSpPr/>
          <p:nvPr/>
        </p:nvGrpSpPr>
        <p:grpSpPr>
          <a:xfrm>
            <a:off x="3851280" y="0"/>
            <a:ext cx="4463640" cy="836280"/>
            <a:chOff x="3851280" y="0"/>
            <a:chExt cx="4463640" cy="836280"/>
          </a:xfrm>
        </p:grpSpPr>
        <p:sp>
          <p:nvSpPr>
            <p:cNvPr id="7" name="Rectangle 8"/>
            <p:cNvSpPr/>
            <p:nvPr/>
          </p:nvSpPr>
          <p:spPr>
            <a:xfrm>
              <a:off x="3851280" y="2520"/>
              <a:ext cx="4207680" cy="833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a5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>
              <a:off x="7887600" y="0"/>
              <a:ext cx="427320" cy="83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601956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4343400" y="6552720"/>
            <a:ext cx="66816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2C43-74BE-4174-9462-0D92ED0B03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1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412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13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</p:grpSp>
      <p:pic>
        <p:nvPicPr>
          <p:cNvPr id="415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16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7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1323-0269-4FCB-889F-54383E6DBD5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51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2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</p:grpSp>
      <p:pic>
        <p:nvPicPr>
          <p:cNvPr id="54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5201-A18E-4B14-ADC6-539622F4957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456840" y="632412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8"/>
          </p:nvPr>
        </p:nvSpPr>
        <p:spPr>
          <a:xfrm>
            <a:off x="3124080" y="632412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9"/>
          </p:nvPr>
        </p:nvSpPr>
        <p:spPr>
          <a:xfrm>
            <a:off x="6552720" y="632412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802E-D5F7-4B07-B87C-6D50274B8E97}" type="slidenum">
              <a:rPr b="0" lang="ru-RU" sz="14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37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38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139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grpSp>
          <p:nvGrpSpPr>
            <p:cNvPr id="140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41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</p:grpSp>
        <p:pic>
          <p:nvPicPr>
            <p:cNvPr id="143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6E07-4F88-4D84-BF5A-1D5CECB0921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8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8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</p:grpSp>
      <p:pic>
        <p:nvPicPr>
          <p:cNvPr id="19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1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2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DA6E-12BC-44ED-9C3D-99BDE1845F1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5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236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7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</p:grpSp>
      <p:pic>
        <p:nvPicPr>
          <p:cNvPr id="239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9F89-1AE1-4327-A95E-5485F4B7B9F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85EF-7EE1-461F-B4B7-153E4754BCF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3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324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</p:grpSp>
      <p:pic>
        <p:nvPicPr>
          <p:cNvPr id="32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E127-A3BC-4A2E-81A7-9CDAA0EF61B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9FD9-786E-4CAD-AC54-4A94DE3EE11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714240" y="907920"/>
            <a:ext cx="8001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Lucida Sans Unicode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Синтаксический и пунктуационный анализ сложносочиненного предложения. 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0" name="Rectangle 6"/>
          <p:cNvSpPr/>
          <p:nvPr/>
        </p:nvSpPr>
        <p:spPr>
          <a:xfrm>
            <a:off x="4643280" y="3681360"/>
            <a:ext cx="4140360" cy="1800360"/>
          </a:xfrm>
          <a:prstGeom prst="rect">
            <a:avLst/>
          </a:prstGeom>
          <a:solidFill>
            <a:srgbClr val="000000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Урок обобщения и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закрепления знаний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9" name="Заголовок 5" descr=""/>
          <p:cNvPicPr/>
          <p:nvPr/>
        </p:nvPicPr>
        <p:blipFill>
          <a:blip r:embed="rId1"/>
          <a:stretch/>
        </p:blipFill>
        <p:spPr>
          <a:xfrm>
            <a:off x="1255680" y="231840"/>
            <a:ext cx="7175520" cy="701640"/>
          </a:xfrm>
          <a:prstGeom prst="rect">
            <a:avLst/>
          </a:prstGeom>
          <a:ln w="0">
            <a:noFill/>
          </a:ln>
        </p:spPr>
      </p:pic>
      <p:sp>
        <p:nvSpPr>
          <p:cNvPr id="480" name="Прямоугольник 8"/>
          <p:cNvSpPr/>
          <p:nvPr/>
        </p:nvSpPr>
        <p:spPr>
          <a:xfrm>
            <a:off x="571680" y="1214280"/>
            <a:ext cx="8248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Lucida Sans Unicode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Calibri"/>
              </a:rPr>
              <a:t>Жизнь человеку дается один раз, и у всех нас разная судьба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Calibri"/>
              </a:rPr>
              <a:t>Каждый хочет иметь надежного друга, но не всегда мы находим таких людей рядом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Calibri"/>
              </a:rPr>
              <a:t>Обретя хорошего друга, мы стараемся не терять его, а он, наверное, нас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Calibri"/>
              </a:rPr>
              <a:t>Испытывая трудности, мы помогаем друг другу, и никто не забывает об этом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Calibri"/>
              </a:rPr>
              <a:t>С другом  жизнь становится прекрасной для каждого из нас, и уже по-другому воспринимаются неприятности</a:t>
            </a:r>
            <a:r>
              <a:rPr b="0" lang="ru-RU" sz="2400" spc="-1" strike="noStrike">
                <a:solidFill>
                  <a:srgbClr val="000066"/>
                </a:solidFill>
                <a:latin typeface="Bookman Old Style"/>
                <a:ea typeface="Calibri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500040" y="1643040"/>
            <a:ext cx="82296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: 1-8, 2-7, 3-1, 4-4, 5-2, 6-6, 7-5, 8-3, 9-6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714240" y="785520"/>
            <a:ext cx="80726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у свою добываю в бою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-то бог, а не будь сам плох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той Боже пахать не поможет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а с поволокой, а рот с позевотой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рача лечись, у умного учись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надеется на небо, тот сидит без хлеб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глаз на мельницу, другой на кузницу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ый разум наживёшь не сразу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вой ум надейся, а за чужой держись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чела мала и та работает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0" y="1484280"/>
            <a:ext cx="91440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 повторить и обобщить сведения об основных группах  ССП  по значению и союзам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71640" indent="-514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закрепить знания о постановке  запятой и ее отсутствии в  ССП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71640" indent="-514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научить последовательно осуществлять синтаксический и пунктуационный разборы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ССП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2" name="Заголовок 4" descr=""/>
          <p:cNvPicPr/>
          <p:nvPr/>
        </p:nvPicPr>
        <p:blipFill>
          <a:blip r:embed="rId1"/>
          <a:stretch/>
        </p:blipFill>
        <p:spPr>
          <a:xfrm>
            <a:off x="1255680" y="341280"/>
            <a:ext cx="717552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50004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                   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4" name="Заголовок 6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42560" cy="84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5" name=""/>
          <p:cNvGraphicFramePr/>
          <p:nvPr/>
        </p:nvGraphicFramePr>
        <p:xfrm>
          <a:off x="1143000" y="1071720"/>
          <a:ext cx="7086600" cy="4952880"/>
        </p:xfrm>
        <a:graphic>
          <a:graphicData uri="http://schemas.openxmlformats.org/drawingml/2006/table">
            <a:tbl>
              <a:tblPr/>
              <a:tblGrid>
                <a:gridCol w="412200"/>
                <a:gridCol w="161280"/>
                <a:gridCol w="393120"/>
                <a:gridCol w="437040"/>
                <a:gridCol w="435600"/>
                <a:gridCol w="437040"/>
                <a:gridCol w="294480"/>
                <a:gridCol w="149040"/>
                <a:gridCol w="438840"/>
                <a:gridCol w="435600"/>
                <a:gridCol w="437040"/>
                <a:gridCol w="435240"/>
                <a:gridCol w="438840"/>
                <a:gridCol w="435600"/>
                <a:gridCol w="437040"/>
                <a:gridCol w="435240"/>
                <a:gridCol w="312120"/>
                <a:gridCol w="149040"/>
                <a:gridCol w="412200"/>
              </a:tblGrid>
              <a:tr h="178560">
                <a:tc gridSpan="19"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6960"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1" rowSpan="2">
                  <a:txBody>
                    <a:bodyPr lIns="56520" rIns="565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Части ССП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160"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оюзы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600"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7">
                  <a:txBody>
                    <a:bodyPr lIns="56520" rIns="565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Значения ССП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160"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ctr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ctr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ctr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ctr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ctr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ctr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160"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7">
                  <a:txBody>
                    <a:bodyPr lIns="56520" rIns="565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Знаки препинания в ССП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6" name=""/>
          <p:cNvGraphicFramePr/>
          <p:nvPr/>
        </p:nvGraphicFramePr>
        <p:xfrm>
          <a:off x="1714680" y="357120"/>
          <a:ext cx="6192720" cy="5935680"/>
        </p:xfrm>
        <a:graphic>
          <a:graphicData uri="http://schemas.openxmlformats.org/drawingml/2006/table">
            <a:tbl>
              <a:tblPr/>
              <a:tblGrid>
                <a:gridCol w="369720"/>
                <a:gridCol w="276120"/>
                <a:gridCol w="406440"/>
                <a:gridCol w="405000"/>
                <a:gridCol w="404640"/>
                <a:gridCol w="392040"/>
                <a:gridCol w="392400"/>
                <a:gridCol w="392040"/>
                <a:gridCol w="390600"/>
                <a:gridCol w="392040"/>
                <a:gridCol w="392040"/>
                <a:gridCol w="406440"/>
                <a:gridCol w="404640"/>
                <a:gridCol w="406440"/>
                <a:gridCol w="392040"/>
                <a:gridCol w="370080"/>
              </a:tblGrid>
              <a:tr h="195480">
                <a:tc gridSpan="16"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0"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Части ССП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40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Союзы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552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соединительные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и, да (= и), ни…ни, тоже, также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разделительные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то… то, или (иль), либо, то ли… то ли, не то…. не то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противительные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а, не только… но и, но, да (=но), однако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4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Значения ССП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40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 rowSpan="3">
                  <a:txBody>
                    <a:bodyPr lIns="41040" rIns="41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одновременность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последовательность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причина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 rowSpan="3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чередование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взаимоисключение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 rowSpan="3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сопоставление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противопоставление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100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4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Знаки препинания в ССП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96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04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 rowSpan="3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запятая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 rowSpan="3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точка с запятой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тире</a:t>
                      </a:r>
                      <a:endParaRPr b="0" lang="en-US" sz="10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720"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040" rIns="41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b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357120" y="1844280"/>
            <a:ext cx="85010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Bookman Old Style"/>
              </a:rPr>
              <a:t>Вскоре после восхода набежала туча и брызнул короткий дождь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Bookman Old Style"/>
              </a:rPr>
              <a:t>Очевидно, багаж мой уже забрали и кто-то добрый привел квартиру в порядо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Bookman Old Style"/>
              </a:rPr>
              <a:t>Уже совсем рассвело и народ стал подниматься, когда я вернулся в свою комнату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8" name="Заголовок 1" descr=""/>
          <p:cNvPicPr/>
          <p:nvPr/>
        </p:nvPicPr>
        <p:blipFill>
          <a:blip r:embed="rId1"/>
          <a:stretch/>
        </p:blipFill>
        <p:spPr>
          <a:xfrm>
            <a:off x="706320" y="480960"/>
            <a:ext cx="78710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714240" y="642600"/>
            <a:ext cx="8429760" cy="54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: укажите номера ССП, в которых не нужно ставить запятую перед союзом </a:t>
            </a:r>
            <a:r>
              <a:rPr b="1" lang="ru-RU" sz="1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едка хлопнет обессиленный парус или под кормой плеснет волна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 Ивана Ивановича большие выразительные глаза табачного цвета и рот несколько похож на букву ижицу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Лазурь небесная смеётся, ночной омытая грозой и между гор росисто вьётся долина светлой полосой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 холодном поле ветер шумел и дождик лил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о словам охотников, зверь в этих лесах вывелся и птица исчезла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В ветер леса шумят великим океанским гулом и вершины сосен гнутся вслед пролетающим облакам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олнце пряталось за холодные вершины и беловатый туман начинал расходиться в долинах когда на улице раздался звон дорожного колокольчика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Воздух дышит весенним ароматом и вся природа оживляется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К рассвету хлынул дождь и снег, подтаявший раньше, расплавился в потоке воды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Любопытство загнало трехпалолистный хмель высоко над редким чернолесьем и задержало его там крючковатыми шипами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0" name="Заголовок 1" descr=""/>
          <p:cNvPicPr/>
          <p:nvPr/>
        </p:nvPicPr>
        <p:blipFill>
          <a:blip r:embed="rId1"/>
          <a:stretch/>
        </p:blipFill>
        <p:spPr>
          <a:xfrm>
            <a:off x="633240" y="-85680"/>
            <a:ext cx="8242560" cy="804960"/>
          </a:xfrm>
          <a:prstGeom prst="rect">
            <a:avLst/>
          </a:prstGeom>
          <a:ln w="0">
            <a:noFill/>
          </a:ln>
        </p:spPr>
      </p:pic>
      <p:sp>
        <p:nvSpPr>
          <p:cNvPr id="471" name="TextBox 3"/>
          <p:cNvSpPr/>
          <p:nvPr/>
        </p:nvSpPr>
        <p:spPr>
          <a:xfrm>
            <a:off x="3929040" y="6119640"/>
            <a:ext cx="49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Код проверки: 1,2,4,5,6,7,9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642960" y="1499760"/>
            <a:ext cx="80438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4 групп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м дан во владение самый богатый, меткий, могучий и поистине волшебный русский язык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ждый поэт всегда задумывается о своем « святом ремесле», о поэзии, об отношениях с обществом и человечеством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икогда не знаешь, где найдешь настоящее слово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Жизнь человеку дается один раз, и у всех нас разная судьб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Знойные сухие ветры разгоняли тучи, подымая вихри по дороге, солнце нещадно палило хлеба и травы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3" name="Заголовок 5" descr=""/>
          <p:cNvPicPr/>
          <p:nvPr/>
        </p:nvPicPr>
        <p:blipFill>
          <a:blip r:embed="rId1"/>
          <a:stretch/>
        </p:blipFill>
        <p:spPr>
          <a:xfrm>
            <a:off x="1182600" y="158760"/>
            <a:ext cx="717552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571680" y="990720"/>
            <a:ext cx="811512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 групп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ушкин считал любовь одним из самых глубоких чувств человека, влияющих на всю его жизнь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ждый хочет иметь надежного друга, но не всегда мы находим таких людей рядом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Травы скашивают ранним утром, пока еще не уронили росы, пока они нежатся в ее прохладе под дремотной сладкой тяжестью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Дорога вилась передо мною между густыми кустами орешника, уже залитого мраком; я продвигался вперед с трудом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Тропа выровнялась, пробежала вперед, миновала последний лужок и привела караван к крутому обрыву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5" name="Заголовок 3" descr=""/>
          <p:cNvPicPr/>
          <p:nvPr/>
        </p:nvPicPr>
        <p:blipFill>
          <a:blip r:embed="rId1"/>
          <a:stretch/>
        </p:blipFill>
        <p:spPr>
          <a:xfrm>
            <a:off x="1212840" y="158760"/>
            <a:ext cx="717552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571680" y="990720"/>
            <a:ext cx="811512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6 групп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ельзя понять поэта, не будучи некоторое время под его исключительным влиянием, не полюбив смотреть его глазами, слышать его слухом, говорить его языком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Чтобы не были души пусты, чтобы огонь не унес красоты, чтобы реки текли, чтобы вишни цвели, мы в ответе с тобой за простор всей земл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ретя хорошего друга, мы стараемся не терять его, а он - нас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дул ветер, пахнувший полынью и пшеничной соломой, раскачивал на меже высокие репейник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ечален я: со мною друга нет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7" name="Заголовок 5" descr=""/>
          <p:cNvPicPr/>
          <p:nvPr/>
        </p:nvPicPr>
        <p:blipFill>
          <a:blip r:embed="rId1"/>
          <a:stretch/>
        </p:blipFill>
        <p:spPr>
          <a:xfrm>
            <a:off x="1182600" y="158760"/>
            <a:ext cx="717552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3T19:21:03Z</dcterms:created>
  <dc:creator>Людмила Балуева</dc:creator>
  <dc:description/>
  <dc:language>en-US</dc:language>
  <cp:lastModifiedBy>BEST</cp:lastModifiedBy>
  <dcterms:modified xsi:type="dcterms:W3CDTF">2025-11-20T12:13:27Z</dcterms:modified>
  <cp:revision>71</cp:revision>
  <dc:subject/>
  <dc:title>Сложносочиненное предложение</dc:title>
</cp:coreProperties>
</file>